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5D4-CA63-4F69-B02D-96BA5A90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3B3-CC9C-42EE-B694-FEBE863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1EE-5426-43DF-BB0F-6ACDF5B8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EE0-87CB-40B5-BCDB-5BA953B2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F4C-CB37-43D0-8050-A3E1F22B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CC3-61D7-42D3-82EE-7E6323F8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C20-0CEF-4A0A-AA0C-F8EC0354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4CD-3496-49B4-92DE-1AE38233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6D9-EDF6-405A-85A8-4B9D9BCA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68C-E091-4CE1-8626-C1B242DE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62E-2B40-4639-B90B-C9A26B4D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46A-94FF-409A-91AF-F686C6F0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D508-76BA-4A0A-BEEC-24631A3B9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5 Poď k Spasiteľov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ď k 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 k nemu svoj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každý deň no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ďačne ho chv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ádej sa 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iesť chcel by ťa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íťazstvo dá 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na rany li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ie, čo ťa tráp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počuje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adosť ti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životu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már závoj sa s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úzkostí ti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lnka lúč zla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rozjasní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je tvoj blížn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v trápení, tmá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mučivej tríz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ň dolieha strac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ruku ho vez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v prosbe sa sklo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vďačnej zas p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ový dá t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skončenej pú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privíta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už nezarmú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vet nespáli mrá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j nebeskej vla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iery je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zbaviť nás stra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ykup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08:33:14Z</dcterms:modified>
  <cp:revision>21</cp:revision>
  <dc:subject/>
  <dc:title>Je veľký náš Pán, on slávy je Kráľ Nech do všetkých strán  spev vrúcnych znie chvál.</dc:title>
</cp:coreProperties>
</file>